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C4FED-49D5-4E93-BA32-AC9F905FAE3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is lesson should take 2 to 3 hou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816E2-B5E1-4D57-99AC-33FE45B8057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earners can read the Easier English versions of the interview, then read the originals and note the differences in vocabulary and sentence structu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8E8B8-990E-4904-A78E-D294B9BD1F7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imings: lead-in/vocabulary: 15 - 30 mins; speaking: 15 - 30 mins; reading: 15 - 30 mins; grammar focus and practice: 15 - 30 mins; writing: 30 – 60 m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48EBD-6345-4692-A0F9-0D265FEDF17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f learners don’t know words, feed in: a) demonstration, strike, boycott, march et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) support, join in, disperse crowds, water canon, rubber bullets, sack, arrest, imprison et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A1E27-58D0-4946-B9DD-820C89AF50B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earners can point out countries where they heard about protests and discuss why people were protest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600B1-DBE5-49F0-ACBF-5CCA6EF1265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Different learners can read selected articles in pairs and discuss, or all learners can skim-read all 6 articles, then discuss: who? how? why? for ea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379A7-C2E1-44EF-9896-4674B5F90B6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Guide learners to discuss the form/structure (and the meaning/function and phonology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7EA52-0A55-41EE-9EDC-C62FB154369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heck learners understand the meaning/function, form/structure and phonology (utterance stress – usually on past participles; contractions; pronunciation of “ed” ending of regular past participles etc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34197-43A6-4AE6-9ABC-97D8784B196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earners can write their 3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r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conditional sentences on the board or on flip-chart paper, and then correct any errors in each other’s wor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6F632-540A-4EED-B2C5-0963FB2F83C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rticles can be blu-tacked to the wall afterwards for all learners to read and decide: which would be most interesting for people to rea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Groups can then correct any errors in the articl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26A0A-77CC-4F34-8BD4-933493025C4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698CB-1F52-493F-AF72-0AB03999A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39146-4D2B-4AD6-9D0A-16ACC3380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B4D39-3FE3-42CC-9F9B-A538E08DE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BF34E-BE94-427B-9B97-7E0A16FB4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D1CE5-021D-4BD4-87C2-3355B0B23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CE7A7-21BC-4C72-AE72-E19B9C4F0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AD28C-DF1A-4AB3-9715-EAF5B6C5E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3B67C-09A9-4696-8834-CC761A9B8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718C8-A477-4CBA-AE22-1F57B038A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E1548-F90D-4FDE-879B-3228C8A4C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9383E-C914-4345-BAEA-C67391C12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83195-4DCF-4FD7-9620-5EA94A851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4e9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55CAE-9C74-4F62-A587-3960A01BBF90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eewiki.newint.org/index.php/Photo_story_:_Turkey_has_lost_its_fear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eewiki.newint.org/index.php/Photo_story_:_Turkey_has_lost_its_fear" TargetMode="External"/><Relationship Id="rId2" Type="http://schemas.openxmlformats.org/officeDocument/2006/relationships/hyperlink" Target="http://eewiki.newint.org/index.php/Social_media_in_Turkey" TargetMode="External"/><Relationship Id="rId3" Type="http://schemas.openxmlformats.org/officeDocument/2006/relationships/hyperlink" Target="http://eewiki.newint.org/index.php/Rio_communities_come_together_in_protest" TargetMode="External"/><Relationship Id="rId4" Type="http://schemas.openxmlformats.org/officeDocument/2006/relationships/hyperlink" Target="http://eewiki.newint.org/index.php/Egypt:_what_happened_to_democracy,_freedom,_stability%3F" TargetMode="External"/><Relationship Id="rId5" Type="http://schemas.openxmlformats.org/officeDocument/2006/relationships/hyperlink" Target="http://eewiki.newint.org/index.php/Indonesians_won%27t_stop_fighting" TargetMode="External"/><Relationship Id="rId6" Type="http://schemas.openxmlformats.org/officeDocument/2006/relationships/hyperlink" Target="http://eewiki.newint.org/index.php/G8_hunger_summit:_protest_and_praise" TargetMode="Externa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000000"/>
                </a:solidFill>
                <a:latin typeface="Calibri"/>
              </a:rPr>
              <a:t>Protests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New Internationalist Easier English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Intermediate Ready Less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2484360" y="476280"/>
            <a:ext cx="601200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272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Homework: read the Easier English texts again – then click on the original at the end of each article and read that: compare vocabulary and grammar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323640" y="3357720"/>
            <a:ext cx="856908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urkey: </a:t>
            </a:r>
            <a:r>
              <a:rPr b="0" lang="en-GB" sz="1500" spc="-1" strike="noStrike" u="sng">
                <a:solidFill>
                  <a:srgbClr val="3399ff"/>
                </a:solidFill>
                <a:uFillTx/>
                <a:latin typeface="Calibri"/>
                <a:hlinkClick r:id="rId1"/>
              </a:rPr>
              <a:t>http://eewiki.newint.org/index.php/Photo_story_:_Turkey_has_lost_its_fea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http://eewiki.newint.org/index.php/Social_media_in_Turke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Brazil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http://eewiki.newint.org/index.php/Rio_communities_come_together_in_prote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Egyp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http://eewiki.newint.org/index.php/Egypt:_what_happened_to_democracy,_freedom,_stability%3F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Indonesia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http://eewiki.newint.org/index.php/Indonesians_won%27t_stop_fighting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Calibri"/>
              </a:rPr>
              <a:t>UK:</a:t>
            </a: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http://eewiki.newint.org/index.php/G8_hunger_summit:_protest_and_prais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Lesson plan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6840" y="907560"/>
            <a:ext cx="843588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alibri"/>
              </a:rPr>
              <a:t>Vocabulary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alibri"/>
              </a:rPr>
              <a:t>Speaking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alibri"/>
              </a:rPr>
              <a:t>Reading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alibri"/>
              </a:rPr>
              <a:t>Grammar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alibri"/>
              </a:rPr>
              <a:t>Writing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alibri"/>
              </a:rPr>
              <a:t>Homework / extension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9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, we need </a:t>
            </a: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words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 – in groups, list as many words/phrases as possible for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250560" y="3573000"/>
            <a:ext cx="4244760" cy="25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a) </a:t>
            </a:r>
            <a:r>
              <a:rPr b="1" lang="en-GB" sz="2800" spc="-1" strike="noStrike" u="sng">
                <a:solidFill>
                  <a:srgbClr val="000000"/>
                </a:solidFill>
                <a:uFillTx/>
                <a:latin typeface="Calibri"/>
              </a:rPr>
              <a:t>How people can prote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eg. hunger strik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647960" y="3573000"/>
            <a:ext cx="4244760" cy="25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b) </a:t>
            </a:r>
            <a:r>
              <a:rPr b="1" lang="en-GB" sz="2800" spc="-1" strike="noStrike" u="sng">
                <a:solidFill>
                  <a:srgbClr val="000000"/>
                </a:solidFill>
                <a:uFillTx/>
                <a:latin typeface="Calibri"/>
              </a:rPr>
              <a:t>How other people can respond to protes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eg. force-feed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Protests in the last year: where/why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" descr=""/>
          <p:cNvPicPr/>
          <p:nvPr/>
        </p:nvPicPr>
        <p:blipFill>
          <a:blip r:embed="rId2"/>
          <a:stretch/>
        </p:blipFill>
        <p:spPr>
          <a:xfrm>
            <a:off x="781200" y="1503360"/>
            <a:ext cx="7489800" cy="535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00244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Read/think: who? how? why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125000"/>
            <a:ext cx="83628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Turkey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en-GB" sz="1800" spc="-1" strike="noStrike" u="sng">
                <a:solidFill>
                  <a:srgbClr val="3399ff"/>
                </a:solidFill>
                <a:uFillTx/>
                <a:latin typeface="Calibri"/>
                <a:hlinkClick r:id="rId1"/>
              </a:rPr>
              <a:t>http://eewiki.newint.org/index.php/Photo_story_:_Turkey_has_lost_its_fea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3399ff"/>
                </a:solidFill>
                <a:uFillTx/>
                <a:latin typeface="Calibri"/>
                <a:hlinkClick r:id="rId2"/>
              </a:rPr>
              <a:t>http://eewiki.newint.org/index.php/Social_media_in_Turke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Brazil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3399ff"/>
                </a:solidFill>
                <a:uFillTx/>
                <a:latin typeface="Calibri"/>
                <a:hlinkClick r:id="rId3"/>
              </a:rPr>
              <a:t>http://eewiki.newint.org/index.php/Rio_communities_come_together_in_protes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Egypt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3399ff"/>
                </a:solidFill>
                <a:uFillTx/>
                <a:latin typeface="Calibri"/>
                <a:hlinkClick r:id="rId4"/>
              </a:rPr>
              <a:t>http://eewiki.newint.org/index.php/Egypt:_what_happened_to_democracy,_freedom,_stability%3F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Indonesia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3399ff"/>
                </a:solidFill>
                <a:uFillTx/>
                <a:latin typeface="Calibri"/>
                <a:hlinkClick r:id="rId5"/>
              </a:rPr>
              <a:t>http://eewiki.newint.org/index.php/Indonesians_won%27t_stop_fight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UK: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3399ff"/>
                </a:solidFill>
                <a:uFillTx/>
                <a:latin typeface="Calibri"/>
                <a:hlinkClick r:id="rId6"/>
              </a:rPr>
              <a:t>http://eewiki.newint.org/index.php/G8_hunger_summit:_protest_and_prai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ow think about other options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250920" y="1341360"/>
            <a:ext cx="864216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f they </a:t>
            </a:r>
            <a:r>
              <a:rPr b="0" lang="en-GB" sz="4400" spc="-1" strike="noStrike">
                <a:solidFill>
                  <a:srgbClr val="ff0000"/>
                </a:solidFill>
                <a:latin typeface="Calibri"/>
              </a:rPr>
              <a:t>hadn’t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 protest</a:t>
            </a:r>
            <a:r>
              <a:rPr b="0" lang="en-GB" sz="4400" spc="-1" strike="noStrike">
                <a:solidFill>
                  <a:srgbClr val="ff0000"/>
                </a:solidFill>
                <a:latin typeface="Calibri"/>
              </a:rPr>
              <a:t>ed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, no-one </a:t>
            </a:r>
            <a:r>
              <a:rPr b="0" lang="en-GB" sz="4400" spc="-1" strike="noStrike">
                <a:solidFill>
                  <a:srgbClr val="ff0000"/>
                </a:solidFill>
                <a:latin typeface="Calibri"/>
              </a:rPr>
              <a:t>would have 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know</a:t>
            </a:r>
            <a:r>
              <a:rPr b="0" lang="en-GB" sz="4400" spc="-1" strike="noStrike">
                <a:solidFill>
                  <a:srgbClr val="ff0000"/>
                </a:solidFill>
                <a:latin typeface="Calibri"/>
              </a:rPr>
              <a:t>n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f they </a:t>
            </a:r>
            <a:r>
              <a:rPr b="0" lang="en-GB" sz="4400" spc="-1" strike="noStrike">
                <a:solidFill>
                  <a:srgbClr val="ff0000"/>
                </a:solidFill>
                <a:latin typeface="Calibri"/>
              </a:rPr>
              <a:t>hadn’t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4400" spc="-1" strike="noStrike">
                <a:solidFill>
                  <a:srgbClr val="ff0000"/>
                </a:solidFill>
                <a:latin typeface="Calibri"/>
              </a:rPr>
              <a:t>gone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 to the streets, nothing </a:t>
            </a:r>
            <a:r>
              <a:rPr b="0" lang="en-GB" sz="4400" spc="-1" strike="noStrike">
                <a:solidFill>
                  <a:srgbClr val="ff0000"/>
                </a:solidFill>
                <a:latin typeface="Calibri"/>
              </a:rPr>
              <a:t>would have 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hange</a:t>
            </a:r>
            <a:r>
              <a:rPr b="0" lang="en-GB" sz="4400" spc="-1" strike="noStrike">
                <a:solidFill>
                  <a:srgbClr val="ff0000"/>
                </a:solidFill>
                <a:latin typeface="Calibri"/>
              </a:rPr>
              <a:t>d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f they </a:t>
            </a:r>
            <a:r>
              <a:rPr b="0" lang="en-GB" sz="4400" spc="-1" strike="noStrike">
                <a:solidFill>
                  <a:srgbClr val="ff0000"/>
                </a:solidFill>
                <a:latin typeface="Calibri"/>
              </a:rPr>
              <a:t>hadn’t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4400" spc="-1" strike="noStrike">
                <a:solidFill>
                  <a:srgbClr val="ff0000"/>
                </a:solidFill>
                <a:latin typeface="Calibri"/>
              </a:rPr>
              <a:t>done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 anything, the government </a:t>
            </a:r>
            <a:r>
              <a:rPr b="0" lang="en-GB" sz="4400" spc="-1" strike="noStrike">
                <a:solidFill>
                  <a:srgbClr val="ff0000"/>
                </a:solidFill>
                <a:latin typeface="Calibri"/>
              </a:rPr>
              <a:t>would have 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tinue</a:t>
            </a:r>
            <a:r>
              <a:rPr b="0" lang="en-GB" sz="4400" spc="-1" strike="noStrike">
                <a:solidFill>
                  <a:srgbClr val="ff0000"/>
                </a:solidFill>
                <a:latin typeface="Calibri"/>
              </a:rPr>
              <a:t>d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7030a0"/>
                </a:solidFill>
                <a:latin typeface="Calibri"/>
              </a:rPr>
              <a:t>What’s the grammar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en-GB" sz="4400" spc="-1" strike="noStrike" baseline="30000">
                <a:solidFill>
                  <a:srgbClr val="000000"/>
                </a:solidFill>
                <a:latin typeface="Calibri"/>
              </a:rPr>
              <a:t>rd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 conditional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6840" y="1268280"/>
            <a:ext cx="814716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f + past perfect (had/n’t + past participle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7030a0"/>
                </a:solidFill>
                <a:latin typeface="Calibri"/>
              </a:rPr>
              <a:t>If they hadn’t protest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+ past conditional (would/n’t have + past participl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7030a0"/>
                </a:solidFill>
                <a:latin typeface="Calibri"/>
              </a:rPr>
              <a:t>no-one would have known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alibri"/>
              </a:rPr>
              <a:t>Is this past, present or future? Pa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alibri"/>
              </a:rPr>
              <a:t>Did they protest? Y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alibri"/>
              </a:rPr>
              <a:t>Did other people know because of the protests? Y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264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ow discuss all the protests and make more 3</a:t>
            </a:r>
            <a:r>
              <a:rPr b="0" lang="en-GB" sz="4400" spc="-1" strike="noStrike" baseline="30000">
                <a:solidFill>
                  <a:srgbClr val="000000"/>
                </a:solidFill>
                <a:latin typeface="Calibri"/>
              </a:rPr>
              <a:t>rd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 conditional sentences about what happened or what didn’t happen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68360" y="3068640"/>
            <a:ext cx="820728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urke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Brazi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Greec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ndonesia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UK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Other protests you know about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Writ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395280" y="1268280"/>
            <a:ext cx="829152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n small groups, write an article for a college / school newspape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en-GB" sz="5400" spc="-1" strike="noStrike">
                <a:solidFill>
                  <a:srgbClr val="000000"/>
                </a:solidFill>
                <a:latin typeface="Calibri"/>
              </a:rPr>
              <a:t>Protests around the world”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Write about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different types of protes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give examples from the articles you read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include at least 2 3</a:t>
            </a:r>
            <a:r>
              <a:rPr b="1" lang="en-GB" sz="3600" spc="-1" strike="noStrike" baseline="30000">
                <a:solidFill>
                  <a:srgbClr val="000000"/>
                </a:solidFill>
                <a:latin typeface="Calibri"/>
              </a:rPr>
              <a:t>rd</a:t>
            </a: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 conditional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8T09:06:36Z</dcterms:created>
  <dc:creator>Linda Ruas</dc:creator>
  <dc:description/>
  <dc:language>en-US</dc:language>
  <cp:lastModifiedBy>Linda Ruas</cp:lastModifiedBy>
  <dcterms:modified xsi:type="dcterms:W3CDTF">2013-07-24T20:55:53Z</dcterms:modified>
  <cp:revision>36</cp:revision>
  <dc:subject/>
  <dc:title>People who change the world</dc:title>
</cp:coreProperties>
</file>